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5E1-8764-48DC-A3C2-57139E42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AB4-2631-4268-8796-29FBA412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35D-748D-40C7-9015-5B3CAC65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577-9846-4160-88BF-3985541A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4D8-1722-4C75-8295-3877199B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8B4-D4A4-46ED-84D6-B26D7E8E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092-BE50-4163-A4A2-FE213272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593-789D-4550-B446-CE9C6483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6F3-7613-4C86-8714-03D079C2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F11F-5D7C-48FC-A0A8-0F64B388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805-9AAF-45F4-ABB5-805D9311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7C3-D141-4851-8699-4F2B2F19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04C6-1090-45AB-88B9-20AEAB2BF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 лисы Алисы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3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золотые монеты, а у кота Базилио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золотая монета.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колько всего золотых монет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 н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2952720" cy="18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484360" y="3645000"/>
            <a:ext cx="400068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- это известные числа или данные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8880" y="414972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Сколько всего золотых мо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6160" y="414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788000" y="4292640"/>
            <a:ext cx="2038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- это вопрос задачи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2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4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416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26920" y="4797360"/>
            <a:ext cx="2232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щее число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4520" y="472428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золотых мо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35640" y="4869000"/>
            <a:ext cx="1143000" cy="14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известно.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5300640"/>
            <a:ext cx="5315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 помощью данных чисел можно найти неизвестное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27640" y="5300640"/>
            <a:ext cx="1971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решить задачу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Из чего состоит зада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 txBox="1"/>
          <p:nvPr/>
        </p:nvSpPr>
        <p:spPr>
          <a:xfrm>
            <a:off x="1187280" y="1844640"/>
            <a:ext cx="1190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Услов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87280" y="2565360"/>
            <a:ext cx="97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Вопрос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58920" y="335772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хема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87280" y="4149720"/>
            <a:ext cx="1505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Выражен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58920" y="4869000"/>
            <a:ext cx="1123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Решение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5589720"/>
            <a:ext cx="8287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Ответ: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48000" y="1916280"/>
            <a:ext cx="1333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 лисы Алисы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64" name="Рисунок 0" descr="1783italianstatevenicegoldzecchinoobv400.jpg"/>
          <p:cNvPicPr/>
          <p:nvPr/>
        </p:nvPicPr>
        <p:blipFill>
          <a:blip r:embed="rId1"/>
          <a:stretch/>
        </p:blipFill>
        <p:spPr>
          <a:xfrm>
            <a:off x="4716360" y="1916280"/>
            <a:ext cx="249480" cy="234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0" descr="1783italianstatevenicegoldzecchinoobv400.jpg"/>
          <p:cNvPicPr/>
          <p:nvPr/>
        </p:nvPicPr>
        <p:blipFill>
          <a:blip r:embed="rId2"/>
          <a:stretch/>
        </p:blipFill>
        <p:spPr>
          <a:xfrm>
            <a:off x="5003640" y="1916280"/>
            <a:ext cx="249480" cy="234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0" descr="1783italianstatevenicegoldzecchinoobv400.jpg"/>
          <p:cNvPicPr/>
          <p:nvPr/>
        </p:nvPicPr>
        <p:blipFill>
          <a:blip r:embed="rId3"/>
          <a:stretch/>
        </p:blipFill>
        <p:spPr>
          <a:xfrm>
            <a:off x="5292720" y="1916280"/>
            <a:ext cx="249120" cy="234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651640" y="1916280"/>
            <a:ext cx="1780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 а у кота Базилио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68" name="Рисунок 0" descr="1783italianstatevenicegoldzecchinoobv400.jpg"/>
          <p:cNvPicPr/>
          <p:nvPr/>
        </p:nvPicPr>
        <p:blipFill>
          <a:blip r:embed="rId4"/>
          <a:stretch/>
        </p:blipFill>
        <p:spPr>
          <a:xfrm>
            <a:off x="7524720" y="1916280"/>
            <a:ext cx="249120" cy="23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276720" y="2565360"/>
            <a:ext cx="5256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колько всего золотых монет у лисы Алисы и кота Базилио?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356000" y="407664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3 + 1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067280" y="4941720"/>
            <a:ext cx="1190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+ 1 = 4 (м.)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0000" y="5589720"/>
            <a:ext cx="1828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 золотые монет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012000" y="3573360"/>
            <a:ext cx="2592360" cy="1809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564000" y="3141720"/>
            <a:ext cx="166356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1:02:28Z</dcterms:created>
  <dc:creator>Sergey</dc:creator>
  <dc:description/>
  <dc:language>en-US</dc:language>
  <cp:lastModifiedBy>Sergey</cp:lastModifiedBy>
  <dcterms:modified xsi:type="dcterms:W3CDTF">2012-01-16T18:08:12Z</dcterms:modified>
  <cp:revision>4</cp:revision>
  <dc:subject/>
  <dc:title>У</dc:title>
</cp:coreProperties>
</file>